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69F92A-890D-4922-B43B-FEFD2E607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347631-EF5C-4E24-A681-C6CDB00B149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143E24-7B6C-4553-947D-936432F9D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BA74EF-61DF-4238-940D-2177A8BA8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4D64F1-4672-4799-81AC-09BFE7B6A49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3369B3-0F43-463F-904B-50B3626F72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E84D4A-B661-4372-B0F7-DACB304270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373590-FE03-4AA6-A8DF-513FFDF80C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9BA1EC-91E9-4512-A8A9-A090DA5AFC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59DDE7-3482-4ABB-B69A-3F484D3879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94C627-80FC-4CF2-AA5A-10392A53250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9D97-E9F7-4314-9389-F3B2C26D5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4242-1C11-43CF-BD86-5723B309B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EA36-5454-49E0-99F3-07046C580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09CF-6C55-460D-9BC0-A404E3B54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2E928-1A82-4F92-90E7-94F961E8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BCB17-DD20-4123-8F66-9A643265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56EA-7030-45C8-98DB-B5C6B98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AEBC4-DFD3-48A0-9230-A44F7AAE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15885-1292-4063-B4E1-8B43F4D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8E776-2310-4BF6-8EED-DF8FE1B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7FCE-EA28-493B-BA1B-AF691E86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AF02-EF3D-4284-8226-90CA5283A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BEDA-91D9-4950-8DC8-3F54AA2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00486-1047-44AB-AE27-B4CA79A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D0A0-582B-4FA9-B756-7446B4E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19A9C-CFAF-4A82-9AB1-2801CA2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A2B3C-6268-4131-BEBB-4247B1EF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E914-F495-4BAD-B2DE-9723D3C85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4AA7-C53F-49CE-B560-960A4CC55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9E0E-8708-4EF6-A4E9-BB9D2423F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888E-F16A-4C28-9514-DCD0E6A74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F112-F278-4BC9-9318-6F4759736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81C8-7720-44BF-A8AE-609606D99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E79B-88B6-409E-9334-333C28076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A40F-D133-43AF-B150-66A76FECA70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8F3-1F7C-4348-BFF0-8BBBEF13F1A2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910-C0B2-4B1C-AF51-B38C3FF57F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hyperlink" Target="http://upload.wikimedia.org/wikipedia/commons/4/49/Nifuroxazide.svg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5A4-B429-4B99-BD62-ED09CEADB3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ал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34B-03D8-415C-AEC4-CA38AF524D4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17E-485F-42AD-80AC-FADA9712D51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835280" y="333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02E2-5B1E-4DCC-BD93-703DA884F3F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227640" y="544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64D5-2ED3-4369-9817-B6EC6054C65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B3E-09B1-42C9-8D8A-AF2D96778A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е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6C4-EBE7-4D5B-B1C3-EF36BECEC64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A8A6-DFD3-4DFC-9B24-30C2D13A345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A6D-80A3-435E-B61F-54E131D581C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5DEF-8184-4040-89AE-F3C8A382AF3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BDAB-CC5A-4D13-AC78-F943399EA13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131-1DD1-4FC9-8F55-5E13C80FE8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99D-3FB4-49B2-9D9C-4CF2B080A9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BA5-93D5-4F5C-B691-4B7EBBC400B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а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C5D-667E-418F-822A-818DC88F72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 К и двоструко већу конц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бикарбонат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ацидоза) и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865-519D-43F3-8675-E0DEECA5B2C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49C-0370-4D1D-A7B5-05AEB251E9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о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579E-4776-48A2-ABBE-C736E6DE6D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71D-465E-4E6F-B1F3-0940C1FB1EE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E1C-0ADE-4D90-8031-878C0BF6048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122A-9C8D-4E57-9357-E258A1D8DA8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09AE-7202-4554-990B-7D070ED4B6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42560" y="2205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D6A-00BA-4E9D-BB18-F10B32CDE6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:Nifuroxazide.sv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Rectangle 8"/>
          <p:cNvSpPr/>
          <p:nvPr/>
        </p:nvSpPr>
        <p:spPr>
          <a:xfrm>
            <a:off x="6659640" y="907920"/>
            <a:ext cx="2484360" cy="10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FF1-55BE-4187-B6E4-D3D9A4BC8A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б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о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869-58D6-446F-9B85-F776AF0C8F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C4A9-14A2-4865-83F5-320CDF2616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2C1-6E42-4D01-8CB0-08F2A3838BE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326-2C82-4C1B-A45B-4ECCE1CB0A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14036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BEA-B800-45CC-BCBD-423B4F97B6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2594-D71D-4580-9E41-02628CE91C2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98720"/>
          <a:ext cx="6527880" cy="5211720"/>
        </p:xfrm>
        <a:graphic>
          <a:graphicData uri="http://schemas.openxmlformats.org/drawingml/2006/table">
            <a:tbl>
              <a:tblPr/>
              <a:tblGrid>
                <a:gridCol w="1733760"/>
                <a:gridCol w="1684080"/>
                <a:gridCol w="1478160"/>
                <a:gridCol w="1631880"/>
              </a:tblGrid>
              <a:tr h="55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5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3AA-F4DF-407E-A76E-503F7F1474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4E4C-2D80-44D9-82ED-F6163C4226E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20BF-F704-42AE-9C94-150ED7FA451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30F-570C-47AC-8C4B-87C8E3CFB7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378D-0FE7-4479-9E61-1BCE69C12A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55CB-90D7-49B9-9E61-FD7FB64771B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66BC-7F6F-4605-985A-AE07DC7B68D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014-720F-4C4D-847E-7DA20E7405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EC8-41C3-4097-81C5-6F254CEB527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ABD6-CED1-4BBD-BF4F-02181AA6F82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C89B-432D-4F31-8BC5-7B2685793E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,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7428-91EA-418B-B855-4ACB00A9F2B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3EE-CE8E-4EFD-A5D1-6295A0C27BC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CFD-9A89-497A-AD02-D0EE6171E48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39B-8942-4A01-8A7B-39DC252DB5D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523-2D19-48EC-99B2-370EA140D82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1A98-905F-4DB3-A106-FB9B0CA163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AB2-5F83-48AF-95F1-A6A3570FA77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AED-74EF-4F42-8DD7-8A879BFEF10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69DD-4AC4-4931-8B92-38AED7D8231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алфа, 1 бета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цитотоксични-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B62-3253-445D-A407-37AD57307D1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ећи део нормалне флоре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ређеним условима изазивају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словно патогене 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“o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ртунист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G-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 бац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јединачно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парови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правилн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у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имбрије или пи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ога у адхезиј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 стварају капсул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ки сојеви 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M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капсул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AE4-A4A0-4121-A390-601B881283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71280" y="333360"/>
            <a:ext cx="754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патоге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P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Ентеротоксична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</a:rPr>
              <a:t> (ET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инваз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I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хеморагич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грегат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Ag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дхерент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(EAd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к путничког пролива у развијеним земљ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е дец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емљама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ут пренос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фекал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-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ктни пу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ца у бол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минирана хр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ABC8-8FDC-4FB5-880A-D80B88ADE9C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TEC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 специфичне рецептор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ревној слузни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CFA I, II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егз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(e</a:t>
            </a: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нтер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л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Te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молабилни токси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LT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казује сличнос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рмак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имун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а токсино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vibria chole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активира га температура о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60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27B7-FD05-4026-907A-225FC4C8339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4140360" y="1916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66320" y="764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 састоји о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-субјединице</a:t>
            </a:r>
            <a:r>
              <a:rPr b="0" lang="en-U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фичн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цепторе ентероц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англиози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лаз токсина у ће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</a:rPr>
              <a:t>-субјединица</a:t>
            </a:r>
            <a:r>
              <a:rPr b="0" lang="sr-Latn-CS" sz="2400" spc="-1" strike="noStrike">
                <a:solidFill>
                  <a:srgbClr val="66ccff"/>
                </a:solidFill>
                <a:latin typeface="Calibri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activat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ази у цитоплазму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имулација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денила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кл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центр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c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злучивање воде и електрол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цревни лумен →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F31-7F36-4153-902B-8DFB3064F4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7128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абост,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фузан пролив, зелено-жуте боје, мирише на труле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а крви и гно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про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ЛТ-метод културе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СТ-оглед in v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фактора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емаглутин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рологија (реакција аглутин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29C1-BD5F-4905-8E85-1CA9EE00299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УСНИ ПРОЛ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30-40% акутних инфективних пролива узроковано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акутни гастроентер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о се излучују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огу се идентификовати путем електронске микроско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није специфична за поједине узроч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512-0108-4675-AA02-D93A6BCE44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Рота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ажнији узрочници тешких инфективних пролива код дец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eoviridae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ЕМ облик точка (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ota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ч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дам група (према протеинској структури); А, Б и Ц-патогене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10 серо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вуда у свету (неразвијене и развијене земљ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 пролива код 35-40% хоспитализован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е оболи 140 милиона деце, умре више стотина хиљ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 обољевају деца од 6 месеци до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45A-B3B2-454A-8402-62E8D60077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и број инфекција протиче 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мерени климатски појас-чешће з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 у педијатријским болница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олицом се излучује велика количина вир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Вирус јако отпоран у спољашњој сред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Мала инфективна доза (10 вири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лучивање вируса столицом-непосредно пре појаве првих симптома до 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5AFD-2CD4-4B0D-875B-821820204DD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42560" y="259920"/>
            <a:ext cx="754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епителних ћелија цревних ре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апсорптивне способности з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четкастог покрова-губитак активности хидро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ећана пропустљивост цревног зида за макромолекуле-алергијске реакције на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1-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пролив (водена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хидратација,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компромитовани-пролив дуготрајан и те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фицит лактазе- може трајати 14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3AD4-F00F-4880-BE1B-68033FCB31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дефицијентне особе-хронич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лектронска микроскопија-карактеристичан изглед т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ролошка детекција А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 (одојчад не прекидају дој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9D5-CF90-4550-BC40-FC6C61B4844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9F43-1301-4D95-A57D-FC0BD20315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akter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Аден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чно узрокују пролив код мал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око 10% инфективних пролива деце млађе од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начајан број асимптоматских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ком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кт, не храна-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оноштво до 14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лидан постинфекцијски 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96B-6F2B-47E0-9824-374CE054D2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ична ротавирусном гастроентеритису-блажа и дуж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3-1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лив ( и до 14 дана): воден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ишена температура,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хидратација (не као код ротави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ултивација вируса (н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B7EC-F71A-4BE1-9E68-88B09BFAC72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лци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фекције присутн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но детињ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главном асимптомат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је-вртићи, старачки домови,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зависно од годишњег д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ала дец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благи гастроентеритис, фебрилност, респ. симптоми (ређ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Одрасл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онзумација шкољки или пијење контаминиране воде-грчеви, повраћање, воденаст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7A8-231F-47DF-88CA-9785D9964D6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орвалк и њему сични 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арија деца,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ло контагиозан вирус, инфективна доза&lt;100 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ује проксимални део танког црева, скраћује рес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апсорпција лактозе и м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C23-44AF-41D3-A166-61D69599C3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1-2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чеви, воденасте столице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ишена температура, мијалгије, главобоља (1/2 об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91FF-D39E-480C-AEE5-9A725C3D7AB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066320" y="1052280"/>
            <a:ext cx="75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Астр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ла деца и стар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лажи, воденасти проливи (2-3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ести код ХИВ+ и пацијената са трансплантира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-ИЕМ, детекција вирусног Аг, серологија, P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ронавируси, парвовирус, ентеровируси....?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5E20-7B94-447B-BBAC-7EA1182D15B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УТНИЧК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утни дијареални синдром који се јавља у једне трећине путника током прве недеље путовања или непосредно по повратку к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ји утичу на појав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аросна доб (&lt;30 год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Хипо- или ахлорхид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Ранија појава пролива приликом пут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шћи при путовањима у тропске крајев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463D-66F9-41FE-84CE-C760889BE30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токсич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Шигеле, салмонеле, кампилобактер, вибри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ambli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ntamoeba histolytic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trongiloides sterc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ryptosporidium, Rotavirusi, Entero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соко ризична подручја (20-50%): Јужна Америка, Африка, Средњи исток, 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средњег ризика (10-20%): јужна Европа, Медите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ниског ризика (&lt;8%): северна Европа, Канада, САД, Аустралија, Нови Зел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F4CE-4725-4300-BED2-84C3181B7B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нзумирање локалне хране (термички необрађено поврће, месо и морска храна), употреба леда, непастеризованог млека и неољуштеног во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чиње најчешће 2-3 дана по повратку са пут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(2-3 столице/дневно), некада и преко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е су обилне и водене, праћене експлозивним пражњ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тходи краткотрајни бол у трбуху (гр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може и да варира (зависно од узроч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7F7-BC15-454E-BD0B-4919A65FABF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рт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краткотрајна, 1-3 дана-бактрим, ципрофлокса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бегавање сумњиве воде, хране и напит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ре личне хиг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вентивна примена пробиотика, цревних антисептика и других антимикробних 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акцинација (евенту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24B-3534-4F94-9D06-3001C001B1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6EC-3F53-4AEF-BE9E-1FC3CCCC2FD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2273-2C00-4025-85CE-DFB1B2FAC46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66416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6893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klinika</cp:lastModifiedBy>
  <dcterms:modified xsi:type="dcterms:W3CDTF">2023-10-30T17:55:30Z</dcterms:modified>
  <cp:revision>496</cp:revision>
  <dc:subject/>
  <dc:title>Slide 1</dc:title>
</cp:coreProperties>
</file>